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F98-95C5-4032-8C2E-692BF91D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8D7-F3EB-49F2-9896-589BEA02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907-A65C-4DEB-BCBD-8347503B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DD7-D4A2-40A6-A473-A454170B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98A-6E01-4822-874A-EB4D240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5A3-74FC-4AC7-A2AD-452EBFAC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2EB-1770-40BE-9840-A9D128E1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F72-B982-4B99-BE84-7739716E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58C-B360-4AFF-BCD4-019EC7EB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F1E-D43F-46FB-ACEE-8DD2B0E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1DA-AC8E-4B08-884D-D9FC0CE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B93-587F-4811-A694-DD66DE1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099C-025B-49FD-9B35-6056C0509AE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0" y="0"/>
            <a:ext cx="9144000" cy="78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NEX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VITAMINAS</a:t>
            </a:r>
            <a:r>
              <a:rPr b="1" lang="es-ES_tradnl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  <a:ea typeface="Arial"/>
              </a:rPr>
              <a:t>que particip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  <a:ea typeface="Arial"/>
              </a:rPr>
              <a:t>en 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  <a:ea typeface="Arial"/>
              </a:rPr>
              <a:t>METABOLISMO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  <a:ea typeface="Arial"/>
              </a:rPr>
              <a:t>AMINOÁC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b6"/>
          <p:cNvPicPr/>
          <p:nvPr/>
        </p:nvPicPr>
        <p:blipFill>
          <a:blip r:embed="rId1"/>
          <a:stretch/>
        </p:blipFill>
        <p:spPr>
          <a:xfrm>
            <a:off x="324000" y="1708200"/>
            <a:ext cx="2881080" cy="1792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8"/>
          <p:cNvSpPr/>
          <p:nvPr/>
        </p:nvSpPr>
        <p:spPr>
          <a:xfrm>
            <a:off x="677520" y="3500280"/>
            <a:ext cx="1808280" cy="94716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Fosfato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Piridox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144360" y="4572000"/>
            <a:ext cx="896472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FUNCION: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UNA COENZIMA DE ENZIMAS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TABOLISMO DE  LOS AMINOÁCIDOS (TRANSAMINACIÓN-DESAMINACIÓN-DESCARBOXILACIÓ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ÍNTESIS DEL H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3419640" y="1500120"/>
            <a:ext cx="460836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ar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esc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5" descr="trigo"/>
          <p:cNvPicPr/>
          <p:nvPr/>
        </p:nvPicPr>
        <p:blipFill>
          <a:blip r:embed="rId2"/>
          <a:stretch/>
        </p:blipFill>
        <p:spPr>
          <a:xfrm>
            <a:off x="6985080" y="2492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Calibri"/>
              </a:rPr>
              <a:t>PIRIDOXINA O VITAMINA B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Comic Sans MS"/>
              </a:rPr>
              <a:t>Fuentes – Fu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01480" y="928800"/>
            <a:ext cx="8642520" cy="311544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Requerimientos  nutricionale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: 2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/g proteí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dultos 1,1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&gt;50 años 1,5-1,7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ujeres embarazas y en lactancia 1,9-2,0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Niños 0,5-0,6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68360" y="5877000"/>
            <a:ext cx="489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Avitaminosi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: Muy ra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57120" y="4643280"/>
            <a:ext cx="3672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Hipervitaminosis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Tóx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214720" y="4071960"/>
            <a:ext cx="4537080" cy="5205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Nivel máximo: 100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4143240" y="5357880"/>
            <a:ext cx="14414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572080" y="5000760"/>
            <a:ext cx="32400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Neuropat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Calibri"/>
              </a:rPr>
              <a:t>PIRIDOXINA O VITAMINA B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Comic Sans MS"/>
              </a:rPr>
              <a:t>Necesidades diar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9:54:55Z</dcterms:created>
  <dc:creator>ali y facu</dc:creator>
  <dc:description/>
  <dc:language>en-US</dc:language>
  <cp:lastModifiedBy>ali y facu</cp:lastModifiedBy>
  <dcterms:modified xsi:type="dcterms:W3CDTF">2016-10-17T20:21:44Z</dcterms:modified>
  <cp:revision>1</cp:revision>
  <dc:subject/>
  <dc:title>Diapositiva 1</dc:title>
</cp:coreProperties>
</file>